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3E1-1D37-4A67-AE30-EC16E8C4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0EC-76F6-47B1-9B79-F0B7BAE0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952-2FD3-4E4D-81AB-470E7009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8B78-5FD2-4614-B6F2-10B5A2B8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EE22-2B26-42B5-833C-EF62745B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24A-E061-4E51-9E21-E7A71DFA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1EB8-F801-47BF-8636-AF9FE763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B27-BFC7-4940-B049-AADA7F8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9C5-AFFB-48EB-AA5A-1F05A11C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2AC-E6F3-4B7D-8E15-742524AC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633-4C4B-40B9-AA88-26E4CC0B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CC4E-1135-446F-A96D-4195085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184B-D44A-42CB-9C72-7359BCF0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761-011F-4CA9-AA7F-4DF28D6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360E-FA6F-4AD2-AD1E-1B33B9FA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1092-7C4C-49D6-ACFB-C9F99D7A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321-F5C9-4AFD-82BC-A4E16ACD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E4A-B024-402B-85B8-B98E9C38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E4B-F845-4237-B334-3297DCD99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8B8C-5C6C-4FA7-8243-91FEAE52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B19-415C-4FF0-B82E-60A44493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65B-FB76-4303-8797-00318815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853-BFF8-4821-BBAB-FE2ED802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CB5-A32F-431F-A536-1632A91C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400"/>
                    <a:gd name="textAreaBottom" fmla="*/ 725760 h 72540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360"/>
                    <a:gd name="textAreaBottom" fmla="*/ 684720 h 68436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1720"/>
                    <a:gd name="textAreaBottom" fmla="*/ 532080 h 53172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3960"/>
                  <a:gd name="textAreaBottom" fmla="*/ 454320 h 45396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1FE7-47A9-4AAB-8CFA-BB4259071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801120"/>
                  <a:gd name="textAreaBottom" fmla="*/ 6801480 h 6801120"/>
                </a:gdLst>
                <a:ahLst/>
                <a:rect l="textAreaLeft" t="textAreaTop" r="textAreaRight" b="textAreaBottom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83480"/>
                  <a:gd name="textAreaBottom" fmla="*/ 6783840 h 6783480"/>
                </a:gdLst>
                <a:ahLst/>
                <a:rect l="textAreaLeft" t="textAreaTop" r="textAreaRight" b="textAreaBottom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9160"/>
                    <a:gd name="textAreaBottom" fmla="*/ 119520 h 11916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>
                    <a:gd name="textAreaLeft" fmla="*/ 0 w 4710240"/>
                    <a:gd name="textAreaRight" fmla="*/ 4710240 w 4710240"/>
                    <a:gd name="textAreaTop" fmla="*/ 0 h 725760"/>
                    <a:gd name="textAreaBottom" fmla="*/ 726120 h 725760"/>
                  </a:gdLst>
                  <a:ahLst/>
                  <a:rect l="textAreaLeft" t="textAreaTop" r="textAreaRight" b="textAreaBottom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>
                    <a:gd name="textAreaLeft" fmla="*/ 0 w 1306440"/>
                    <a:gd name="textAreaRight" fmla="*/ 1306440 w 1306440"/>
                    <a:gd name="textAreaTop" fmla="*/ 0 h 684000"/>
                    <a:gd name="textAreaBottom" fmla="*/ 684360 h 684000"/>
                  </a:gdLst>
                  <a:ahLst/>
                  <a:rect l="textAreaLeft" t="textAreaTop" r="textAreaRight" b="textAreaBottom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8200"/>
                    <a:gd name="textAreaBottom" fmla="*/ 538560 h 538200"/>
                  </a:gdLst>
                  <a:ahLst/>
                  <a:rect l="textAreaLeft" t="textAreaTop" r="textAreaRight" b="textAreaBottom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7360"/>
                    <a:gd name="textAreaBottom" fmla="*/ 117720 h 117360"/>
                  </a:gdLst>
                  <a:ahLst/>
                  <a:rect l="textAreaLeft" t="textAreaTop" r="textAreaRight" b="textAreaBottom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>
                    <a:gd name="textAreaLeft" fmla="*/ 0 w 874800"/>
                    <a:gd name="textAreaRight" fmla="*/ 875160 w 87480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>
                    <a:gd name="textAreaLeft" fmla="*/ 0 w 754200"/>
                    <a:gd name="textAreaRight" fmla="*/ 754560 w 754200"/>
                    <a:gd name="textAreaTop" fmla="*/ 0 h 876240"/>
                    <a:gd name="textAreaBottom" fmla="*/ 876600 h 876240"/>
                  </a:gdLst>
                  <a:ahLst/>
                  <a:rect l="textAreaLeft" t="textAreaTop" r="textAreaRight" b="textAreaBottom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>
                    <a:gd name="textAreaLeft" fmla="*/ 0 w 139680"/>
                    <a:gd name="textAreaRight" fmla="*/ 140040 w 139680"/>
                    <a:gd name="textAreaTop" fmla="*/ 0 h 118800"/>
                    <a:gd name="textAreaBottom" fmla="*/ 119160 h 118800"/>
                  </a:gdLst>
                  <a:ahLst/>
                  <a:rect l="textAreaLeft" t="textAreaTop" r="textAreaRight" b="textAreaBottom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>
                    <a:gd name="textAreaLeft" fmla="*/ 0 w 506520"/>
                    <a:gd name="textAreaRight" fmla="*/ 506880 w 506520"/>
                    <a:gd name="textAreaTop" fmla="*/ 0 h 453960"/>
                    <a:gd name="textAreaBottom" fmla="*/ 454320 h 453960"/>
                  </a:gdLst>
                  <a:ahLst/>
                  <a:rect l="textAreaLeft" t="textAreaTop" r="textAreaRight" b="textAreaBottom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>
                    <a:gd name="textAreaLeft" fmla="*/ 0 w 1320840"/>
                    <a:gd name="textAreaRight" fmla="*/ 1321200 w 132084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>
                  <a:gd name="textAreaLeft" fmla="*/ 0 w 247320"/>
                  <a:gd name="textAreaRight" fmla="*/ 247680 w 2473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>
                  <a:gd name="textAreaLeft" fmla="*/ 0 w 4709880"/>
                  <a:gd name="textAreaRight" fmla="*/ 4710240 w 4709880"/>
                  <a:gd name="textAreaTop" fmla="*/ 0 h 725400"/>
                  <a:gd name="textAreaBottom" fmla="*/ 725760 h 725400"/>
                </a:gdLst>
                <a:ahLst/>
                <a:rect l="textAreaLeft" t="textAreaTop" r="textAreaRight" b="textAreaBottom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>
                  <a:gd name="textAreaLeft" fmla="*/ 0 w 1306800"/>
                  <a:gd name="textAreaRight" fmla="*/ 1307160 w 130680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>
                  <a:gd name="textAreaLeft" fmla="*/ 0 w 874800"/>
                  <a:gd name="textAreaRight" fmla="*/ 875160 w 87480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>
                  <a:gd name="textAreaLeft" fmla="*/ 0 w 753840"/>
                  <a:gd name="textAreaRight" fmla="*/ 754200 w 75384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>
                  <a:gd name="textAreaLeft" fmla="*/ 0 w 874440"/>
                  <a:gd name="textAreaRight" fmla="*/ 874800 w 874440"/>
                  <a:gd name="textAreaTop" fmla="*/ 0 h 531720"/>
                  <a:gd name="textAreaBottom" fmla="*/ 532080 h 531720"/>
                </a:gdLst>
                <a:ahLst/>
                <a:rect l="textAreaLeft" t="textAreaTop" r="textAreaRight" b="textAreaBottom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>
                  <a:gd name="textAreaLeft" fmla="*/ 0 w 754200"/>
                  <a:gd name="textAreaRight" fmla="*/ 754560 w 754200"/>
                  <a:gd name="textAreaTop" fmla="*/ 0 h 876240"/>
                  <a:gd name="textAreaBottom" fmla="*/ 876600 h 876240"/>
                </a:gdLst>
                <a:ahLst/>
                <a:rect l="textAreaLeft" t="textAreaTop" r="textAreaRight" b="textAreaBottom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>
                  <a:gd name="textAreaLeft" fmla="*/ 0 w 139680"/>
                  <a:gd name="textAreaRight" fmla="*/ 140040 w 1396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>
                  <a:gd name="textAreaLeft" fmla="*/ 0 w 506160"/>
                  <a:gd name="textAreaRight" fmla="*/ 506520 w 506160"/>
                  <a:gd name="textAreaTop" fmla="*/ 0 h 454320"/>
                  <a:gd name="textAreaBottom" fmla="*/ 454680 h 454320"/>
                </a:gdLst>
                <a:ahLst/>
                <a:rect l="textAreaLeft" t="textAreaTop" r="textAreaRight" b="textAreaBottom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>
                  <a:gd name="textAreaLeft" fmla="*/ 0 w 1320480"/>
                  <a:gd name="textAreaRight" fmla="*/ 1320840 w 13204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EC04-6FB9-4FB5-8906-48D2E2668766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en-US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en-US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en-US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2-11-15T17:37:12Z</dcterms:modified>
  <cp:revision>12</cp:revision>
  <dc:subject/>
  <dc:title>История возникновения праздника </dc:title>
</cp:coreProperties>
</file>