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089-65D9-49FF-BD29-5815669A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7AB-79F6-4D2C-9FE4-5B80C301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BA2-94A2-4EC2-8D48-ED77BFC4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6FF-64C5-451F-9907-280E8469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BEE2-1566-4E28-8026-69F19D9C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D3D5-3AD9-4F25-83E9-76374E8A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491B-F224-4DAD-8D8C-F7128F1A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58D5-A78A-49B9-9206-5B2ED310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022D-9F81-4D79-9A2F-885B3768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BDF3-1D79-4200-A5D2-F558D7D7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2916-1370-457B-B884-CDC83F73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7A4-DCD6-497B-9109-7AF6F00E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CF42-1A1E-4B5C-B619-A56AF449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B97A-27EC-4B39-96F1-BB585DAE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C574-4786-4AD4-A576-351AA63F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E86E-E872-4736-9783-688D7A64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7A10-D772-40C9-82AD-B2F911E0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37C-686B-4726-B3B3-0A209713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E60-2FBB-421D-AE52-4DB0BE4A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E83-160A-4C71-8999-9A40A430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F6A-5917-469D-8928-8332D522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DB9-BD8E-4975-AE7A-290D3949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156-B396-4DA5-9A00-8F1CC35B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A0E-217B-4E95-9DC2-A2D6CE6A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69A6-48F7-4830-BB0C-2331BCD05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B4FA-D7E9-4127-8429-0B98D159A82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-sbor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История возникновения праздника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«Татьянин день»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20872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"...Установление оного университета в Москве тем способнее будет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ней живущих дворян и разночинцев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ложение оной среди Российского государства, куда из округ лежащих мест способно приехать можно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содержание всякого не стоит многого иждивения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чти всякой у себя имеет родственников или знакомых, где себя квартирою и пищею содержать может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Москве у помещиков на дорогом содержании учителей, из которых большая часть не токмо учить науке не могут, но и сами к тому никакого начала не имеют, и только чрез то младые лета учеников и лучшее время к учению пропадает, а за учение оным бесполезно великая плата дается...«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(Ломоносов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11280" y="1341360"/>
            <a:ext cx="432108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ШУВАЛОВ Иван Иванович (1727-97), российский государственный деятель, фаворит Елизаветы Петровны, генерал-адъютант (1760). Покровительствовал просвещению. 1-й куратор Московского университета, президент Академии художеств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5734080"/>
            <a:ext cx="380988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Елизавета Петровн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643280" y="1341360"/>
            <a:ext cx="3743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12(25) января 1755 г. был подписан императрице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Елизаветой Петровной Указ об открытии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в Москве 1-го российского университета</a:t>
            </a:r>
            <a:r>
              <a:rPr b="0" lang="en-US" sz="2400" spc="-1" strike="noStrike">
                <a:solidFill>
                  <a:srgbClr val="f8f8f8"/>
                </a:solidFill>
                <a:latin typeface="Times New Roman Cyr"/>
              </a:rPr>
              <a:t>.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53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2?i=08af8fbca4"/>
          <p:cNvPicPr/>
          <p:nvPr/>
        </p:nvPicPr>
        <p:blipFill>
          <a:blip r:embed="rId1"/>
          <a:stretch/>
        </p:blipFill>
        <p:spPr>
          <a:xfrm>
            <a:off x="250920" y="981000"/>
            <a:ext cx="4224240" cy="47516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178160" y="1341360"/>
            <a:ext cx="496584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од университет определили трехэтажное здание, принадлежавшее Земскому Приказу на Красной площади. Дом отремонтировали и 26 апреля 1775 года приступили к занятиям.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Домовая церковь Московского Университет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Picture 7" descr="419-1"/>
          <p:cNvPicPr/>
          <p:nvPr/>
        </p:nvPicPr>
        <p:blipFill>
          <a:blip r:embed="rId1"/>
          <a:stretch/>
        </p:blipFill>
        <p:spPr>
          <a:xfrm>
            <a:off x="324000" y="1052640"/>
            <a:ext cx="4295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219640" y="228600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едаль на открытие Московского университета. 1775 г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775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4868640"/>
            <a:ext cx="380988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лавное здание МГ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3810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Официальным университетским днем, отмечаемым молебном в университетской церкви, было 12 января. Но его называли не Татьяниным днем, а «днем основания Московского университета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6" name="Picture 7" descr="280px-Moscow_State_University%2C_HDR"/>
          <p:cNvPicPr/>
          <p:nvPr/>
        </p:nvPicPr>
        <p:blipFill>
          <a:blip r:embed="rId1"/>
          <a:srcRect l="12148" t="0" r="8099" b="0"/>
          <a:stretch/>
        </p:blipFill>
        <p:spPr>
          <a:xfrm>
            <a:off x="826920" y="1268280"/>
            <a:ext cx="4032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066920" y="119700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Указ Николая I, где он распорядился праздновать не день открытия университета, а подписание акта о его учреждении. Так волей монарха появился студенческий праздник - Татьянин день и День студента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9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076360" y="1413000"/>
            <a:ext cx="33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Татьянин день праздновался повсюду. Он объединял профессоров, студентов нынешних и “бывших” по всей Росс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4" descr="История возникновения праздника Татьянин день праздник студентов"/>
          <p:cNvPicPr/>
          <p:nvPr/>
        </p:nvPicPr>
        <p:blipFill>
          <a:blip r:embed="rId1"/>
          <a:stretch/>
        </p:blipFill>
        <p:spPr>
          <a:xfrm>
            <a:off x="826920" y="1557360"/>
            <a:ext cx="42814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Как отмечают свой праздник студенты в других странах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24360" y="228600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У иностранных студентов нет особых традиций и обычаев празднования этого дня, но тем не менее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Бельгийские студенты неравнодушны к любым студенческим праздникам. Успешное окончание сессии — хороший повод для встреч друз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4" descr="i2?i=6647d48195"/>
          <p:cNvPicPr/>
          <p:nvPr/>
        </p:nvPicPr>
        <p:blipFill>
          <a:blip r:embed="rId1"/>
          <a:stretch/>
        </p:blipFill>
        <p:spPr>
          <a:xfrm>
            <a:off x="0" y="1817640"/>
            <a:ext cx="36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4797360"/>
            <a:ext cx="777384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вятая мученица Татиана родилась в древнем Риме от знатных ро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Picture 7" descr="15810609_2358"/>
          <p:cNvPicPr/>
          <p:nvPr/>
        </p:nvPicPr>
        <p:blipFill>
          <a:blip r:embed="rId1"/>
          <a:stretch/>
        </p:blipFill>
        <p:spPr>
          <a:xfrm>
            <a:off x="1835280" y="620640"/>
            <a:ext cx="57592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РИМЕТЫ ТАТЬЯНИНОГО Д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красно заходит за лес - к колючему ветр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поутру выглянуло, в полдень постояло над деревней - птицы по весне рано прилетят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нег на Татьянин день - быть летом частому дождичк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На Татьяну проглянет солнышко - к раннему прилету птиц"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happy-year.narod.ru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slovo.odessa.u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50035"/>
                </a:solidFill>
                <a:uFillTx/>
                <a:latin typeface="Times New Roman"/>
                <a:hlinkClick r:id="rId1"/>
              </a:rPr>
              <a:t>www.all-sbor.net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5157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2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другой день неправедный судья, воссев на судилище, опять приказал привести на мучение святую Татиану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4" descr="tatiana5"/>
          <p:cNvPicPr/>
          <p:nvPr/>
        </p:nvPicPr>
        <p:blipFill>
          <a:blip r:embed="rId1"/>
          <a:stretch/>
        </p:blipFill>
        <p:spPr>
          <a:xfrm>
            <a:off x="2627280" y="476280"/>
            <a:ext cx="38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5373360"/>
            <a:ext cx="7991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утро святую Татиану привели в цирк и выпустили на нее страшного льва, чтобы он растерзал святую. Но лев  лег у ее ног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4" descr="08058131"/>
          <p:cNvPicPr/>
          <p:nvPr/>
        </p:nvPicPr>
        <p:blipFill>
          <a:blip r:embed="rId1"/>
          <a:stretch/>
        </p:blipFill>
        <p:spPr>
          <a:xfrm>
            <a:off x="1835280" y="692280"/>
            <a:ext cx="577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79640" y="1699920"/>
            <a:ext cx="467820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Ее предали огню, но пламя стихло у ее ног. В конце концов, ее умертвили, но принудить отказаться от веры не смогл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1"/>
          <a:stretch/>
        </p:blipFill>
        <p:spPr>
          <a:xfrm>
            <a:off x="250920" y="981000"/>
            <a:ext cx="3684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180px-Saint_Tatiana"/>
          <p:cNvPicPr/>
          <p:nvPr/>
        </p:nvPicPr>
        <p:blipFill>
          <a:blip r:embed="rId1"/>
          <a:stretch/>
        </p:blipFill>
        <p:spPr>
          <a:xfrm>
            <a:off x="584280" y="1125360"/>
            <a:ext cx="3773520" cy="5472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42920" y="2286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кона Святой Татианы — покровительница российского студенчест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Огромный зал бурлит, как кратер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терты сословные межи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вспоминают alma-mater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едобородые мужи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Тут все равны. У всех во вз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еселье. Блещет яркость л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Gaudeamus в общем х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оют профессор и студ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оспоминаньем каждый ранен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реди чужих людей одни, -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ришельцы, снова в день Татьянин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ошлись, как там в былые дн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84720" y="112536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2 января (25 января по новому стилю) 1724 года Петром Великим была основана Российская Академия Наук в Санкт-Петербурге. А через год при Академии открылся Санкт-Петербургский Академический Университет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Picture 7" descr="9N0487"/>
          <p:cNvPicPr/>
          <p:nvPr/>
        </p:nvPicPr>
        <p:blipFill>
          <a:blip r:embed="rId1"/>
          <a:stretch/>
        </p:blipFill>
        <p:spPr>
          <a:xfrm>
            <a:off x="0" y="1125360"/>
            <a:ext cx="4114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355640" y="22860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.В. Ломоносов оказал влияние на то, что университет открылся в Москве, а не в Петербурге или каком другом городе России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36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38:04Z</dcterms:created>
  <dc:creator>User</dc:creator>
  <dc:description/>
  <dc:language>en-US</dc:language>
  <cp:lastModifiedBy>User</cp:lastModifiedBy>
  <dcterms:modified xsi:type="dcterms:W3CDTF">2012-11-15T17:37:12Z</dcterms:modified>
  <cp:revision>12</cp:revision>
  <dc:subject/>
  <dc:title>История возникновения праздника </dc:title>
</cp:coreProperties>
</file>